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07F-35E7-4B36-9CFB-B7231A2D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2C2-4759-4554-AC08-D9698EE7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381-1EF7-4C4F-845D-0EE8F71B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CBF-575B-44D8-84B9-0BB6858C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919A-CE84-4911-BF74-7F7A0019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7E4-709C-4E74-B815-0FB58F74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36A-4F8A-4210-8AD8-4070EF12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F64-CEE5-4244-8F91-AD37E36E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1C7-6CF8-489A-A882-F188C15D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897-D2D7-4340-8858-6442175F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4AC-0D4C-4872-9BF5-C6D68798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6BD-5CCA-4B06-8FFF-BBF7721B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48EF-E92B-49BD-8EBA-57430A2E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mall - need an electron microscop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itic - need a host; cannot reproduce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iving - do not carry out life functions 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mutate - can become resistan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ece of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NA or RNA) surrounded by a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rotein coat (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 (rod, spherical, polyhedral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nucleic acid it contains (DNA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host affected (very specific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or type of tissue it inf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of transmission (how it enters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- through sk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alation, food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type of disease they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 - anything that carries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s disease cau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needles, water, fingers, fo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, mic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- produces disease &amp; kills hos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ttachment:  virus particle attaches to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Entry:  virus particle enters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Replication: new genetic material &amp; protein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- Formation: new virus particles are assem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- Lysis &amp; release:  host cell splits open &amp; n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 particles are rele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ttack other hos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tic cycle - active infection process; viruses take over (hijack) a host cell &amp; use it to make more vir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sogenic cycle - virus remains dormant and is reproduced with host DNA (pro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 can have a virus like this for years and not know (HIV, herpes, Hepatitis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 &amp; Disease Def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: vaccines - Edward Jenner developed first vaccine in 17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ses:  white blood cells, antibod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3:41:13Z</dcterms:created>
  <dc:creator>NHS NPS</dc:creator>
  <dc:description/>
  <dc:language>en-US</dc:language>
  <cp:lastModifiedBy>NHS NPS</cp:lastModifiedBy>
  <dcterms:modified xsi:type="dcterms:W3CDTF">2012-03-21T15:12:59Z</dcterms:modified>
  <cp:revision>3</cp:revision>
  <dc:subject/>
  <dc:title>Viruses </dc:title>
</cp:coreProperties>
</file>